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pct" ContentType="image/x-pict"/>
  <Override PartName="/ppt/media/image13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dt" idx="28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ftr" idx="29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 type="sldNum" idx="30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36869-387C-4BCA-8B18-24230382F90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51B7B-BF81-47A1-ACE1-ECB258BA03E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71EA9F-1825-4AFC-BBFF-510628D9C5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943D0-C11C-48BC-BE4B-585AE029D8A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11C68-AA74-4B44-A442-5C117532869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BFF723-FC67-479A-9773-365EACEBC08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EB4A82-7CC7-4DBD-8256-5A7C3A2B19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1740B0-9BBD-4909-8846-4B29862F83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738AD5-F527-4447-835F-D79B074722C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5F847F-E81D-407E-8A38-E0EF1B77AF3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AA59A-D098-4EF7-8826-00AAA3FEE5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1D814-1211-4098-B01C-E33F4E5D5B8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DF18D9-5D25-4619-9CF0-4D191B5298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C7B9-78C7-4EB9-AA34-9FFAA1FDD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FEE5-E8CC-4652-8D18-E4C7DADFD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3862FD-043A-468C-9040-E58EF395A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173FB-0656-4565-A871-68EB90AB1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4D085-827A-453F-8EB2-D7FA9D89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5808F-C129-4845-9C66-61B63DD7A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E7830-EB87-4C3E-ADEC-D22EA62F9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4961E-3A9F-4135-BC54-61109F53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B1B294-F461-4294-8DE0-53BB85CA9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92A901-F355-44C9-8928-E3E45DB6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29B4CA-B7D3-4E64-9E7E-A6658D7F9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3955-92E4-4383-BE0D-960FB9385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84432-29C9-43EE-A9C6-ED8024C8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A9711-94C2-47AD-9685-D53952DD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1383C-A674-4EFC-9DF0-AD58CC83A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48A3-FDC0-44A4-BB89-DBC3117A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2B508-C9D9-4723-A6CB-4532DE41F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7F16-301A-4A23-BCDA-02812E3D6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C4229-3A1A-4BFA-972A-2AA1C417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3026F-1C59-4E03-B1B0-A0163998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BD4E-D3EB-424B-8A86-84463A130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95BA-EF5C-40C6-8015-572249264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4972-6CC7-4E3C-AB06-DC57F0D4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F45D-AC3E-4CB9-85B9-86A07A9A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0EE20-DEDF-44F6-AFF2-E09054BC9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52964-6D65-42B6-9DD5-D95101427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DE1A5B-FF9B-4C61-92E4-416C5A858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1774F-6A6C-4D8F-A871-5D089A5BF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FC894F-D2F0-4F95-AED5-B583A9D79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9CE98-B6C3-4162-84E4-6B75B8FF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7C22B-8870-4AB9-8CC2-C8293F3B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303-10F4-4E57-A043-0F36AB60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452C5-3216-4190-87A0-DCD6A3D5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387AE-3C61-43AD-813A-0C3B12E72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6F8DE-8644-4251-9A75-F78AF834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9DFFD-107D-4458-B968-AFBD7F237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35B35-4657-4048-B69B-03C43197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5E93C-A456-4862-93E3-9A36CCE8D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E0B14-DB44-4A71-80A1-BD9C4B88A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DE4CA-DE83-45E5-BD7B-91527DDE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47B61-E0E8-42D5-BC0E-7548EA86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D032E-0AE6-4984-839F-213E8235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E29D-14F3-42F2-9764-B806E018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679CDC-D7E7-481C-8EC0-8D3322862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488DB-706B-4597-B576-1639D723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E1AF3B-2586-4406-9687-705894A2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57C52-E35D-4550-B312-8A457700B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4DC52-F016-41D0-A187-03CE9A21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2524B-D332-4F84-B2AD-18342FEF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A0D4E-DAF2-4066-BC93-DCB63B4B6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DEA66-AA09-48F3-B9C9-EBA0FBB92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87BC9-7C76-401A-A9DD-B9E25B35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A6E11-2A38-4399-8EBF-732E278AE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FA3-2B23-4844-B2A0-E006A629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15174-38BA-4EDF-AB38-048714C23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A424F-43A2-4AFC-B697-0A0C53B8E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119B6F-922E-44B2-86BA-89A188DD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9AAFCA-0898-4A38-9EBA-DF3FF3778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BC12E-C5C1-417B-97DE-12A66DE68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477417-0C72-47AA-B2F3-269B18DA4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5D8C64-9F82-46E3-829F-7726B2ABB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7C0FC-664D-4983-BFD8-A1C677D7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F7530A-4685-47CB-9B77-34A97E2CB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B64A9D-D0A4-4838-A40A-A548838B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A160-0D81-40FD-90FD-F13FF5AE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53791-81B7-4848-92FC-33225681E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8B206-04CD-4E53-B1B7-813F31D38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0C1AE-5DB3-4F89-8D71-05D93DEC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227D32-138F-4641-B53E-F6DBFD94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9EE74-533F-4550-8F4A-600C09A6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AC3E2-9248-4414-A35E-2315DC6E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C62AD-D005-47A5-ADA3-0799FEC03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7A78E-7039-43EB-9B76-644B9E42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B8A60F-454C-4F52-9785-C57EBAA6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F58272-5998-4919-9BED-B7B8DA8B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2959-35DF-4F9C-868B-916881951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B9A17-35A4-47E5-98CB-27C31D0AF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6D054-A7C6-422A-8091-E623BC2AE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16FC9-A1BD-4CFE-8D7F-AD47F995E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5CBE97-ECE0-42FB-A9F4-AB65E7BFE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E9ACD-E4F1-4C7A-BDFC-9A24B244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0760E-CE13-4797-91B2-18BA4D14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9ECC3-CB6E-497D-9684-F522D6555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34AC3-C88C-481A-8564-7061C82C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570007-3E4A-443C-9FD4-4E98D663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6F592A-E428-4AE4-B2BE-603877009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677A-A3AF-46EB-A75A-6F57FFB9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7CD784-1017-4B92-88AC-44338592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AC7CB9-BB79-46F4-835C-7F051226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0B725-9D23-42CC-BDA3-DAB3F4CEA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F8B14C-2249-4237-9F52-6A8EFE9A6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551E36-D6AA-4B75-9C59-88F17F004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0AD22C-4FBA-4A24-B247-A4ECA2584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BA845-9402-472C-AEEF-911C1B85A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67AB09-CDC6-4E37-B71C-E72687152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F4BFE-E346-4BCB-BBCA-9C6419639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C7B46D-117F-4B32-8687-ED3EEC043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9B55-A091-465A-B069-BB0E3CBF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32C9F-B987-4DD1-A6B7-692DC466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E2880-8064-4D80-804C-D043FB73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6C9A9-B954-46C9-AB56-605D17AD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584C0A-9B54-494F-B64C-8E5205C4D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DD4BDB-48E5-4C7C-A5CD-31D43A49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4587E-9AC4-40C8-B4A6-562B80E5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D3C11-0101-4384-9F20-CE7818FA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C63AC6-E90E-42D7-81E6-E4C20848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2596D-880F-4480-A3FA-ABE555B3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1DF1A-1CF0-4FDB-85EF-66E7B2D73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1761D-5038-4812-9956-81B27E1943CD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10080720" cy="566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653080"/>
            <a:ext cx="100807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5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6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B24CED-5C09-4681-846B-31EE1D310E5D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20C51-39E6-40F4-ABDA-D36A6A0B8F4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10080720" cy="286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868480"/>
            <a:ext cx="100807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5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6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3BB27A-04D4-4E6A-9410-7A40F2B842A5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B90965-AF11-4104-8D4A-E9DC30D0955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6F5E67-F83F-4D28-AD74-3D57592C500E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147840" y="0"/>
            <a:ext cx="5112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147840" y="0"/>
            <a:ext cx="5112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CDB80A-3992-4BBD-A390-E08D6AF94698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3147840" y="0"/>
            <a:ext cx="51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147840" y="0"/>
            <a:ext cx="51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81080" y="1290240"/>
            <a:ext cx="2782800" cy="22068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346560" y="1290240"/>
            <a:ext cx="5726160" cy="220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9192960" y="1290240"/>
            <a:ext cx="809640" cy="22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CE835A-1CCB-4C9F-9191-9379A895D060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7275600" y="0"/>
            <a:ext cx="4896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327800" y="0"/>
            <a:ext cx="2773440" cy="755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911320" y="7029360"/>
            <a:ext cx="4229280" cy="40320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4FB255-1D27-4151-B8C3-8F0EDD150BEF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1C3F86-037B-48A9-BFA4-51B8F93503D5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BCE4DC-57E0-471D-903A-ECCFFDE3CA53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image" Target="../media/image13.pct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0" y="1528560"/>
            <a:ext cx="9072720" cy="58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Support fo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Cloud Resolving Model Simul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VACET All-Hands Mee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IEEE Vis 200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7" name="Picture 3" descr=""/>
          <p:cNvPicPr/>
          <p:nvPr/>
        </p:nvPicPr>
        <p:blipFill>
          <a:blip r:embed="rId1"/>
          <a:stretch/>
        </p:blipFill>
        <p:spPr>
          <a:xfrm>
            <a:off x="1517760" y="0"/>
            <a:ext cx="73990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Further work w/ Cray on optimizing mpi-io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Finalize data mod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cell/corner/edge/face centered data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alidate NetCDF-4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plugin enhancement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arallelizati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ncorporate morton-order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1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9082080" cy="12808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502920" y="1768320"/>
            <a:ext cx="9072360" cy="56109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olorado State Univ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Dave Randall, Ross Heike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NN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Karen Schuchardt, Bruce Palmer, Annette Koonz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LBN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Janet Jacobsen, Wes Bethel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ark Howis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Katie Antypas, John Shalf, Shane Can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team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1968120" y="498600"/>
            <a:ext cx="59947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VisIt Update (Hank’s par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"/>
          <p:cNvSpPr/>
          <p:nvPr/>
        </p:nvSpPr>
        <p:spPr>
          <a:xfrm>
            <a:off x="503280" y="1768320"/>
            <a:ext cx="9072360" cy="62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100800" tIns="100800" bIns="50400" anchor="t">
            <a:spAutoFit/>
          </a:bodyPr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roject is doing very wel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There is an upcoming slide on partnerin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uch more like an open source projec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SVN repo at LBL through SciDAC Outreach Cent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ailing lists at ORN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~200 people on users lis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isitusers.org Wiki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      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Wiki for developers and user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Tutorials (at SciDAC conf, Snowbird, PPPL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60800" y="380880"/>
            <a:ext cx="94114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Likely upcoming features in the next y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"/>
          <p:cNvSpPr/>
          <p:nvPr/>
        </p:nvSpPr>
        <p:spPr>
          <a:xfrm>
            <a:off x="380880" y="1569960"/>
            <a:ext cx="9072720" cy="55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100800" tIns="100800" bIns="50400" anchor="t">
            <a:spAutoFit/>
          </a:bodyPr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SciDAC stuf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oincare plot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ntegration of FastBi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isTrails (?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Non-SciDAC stuff: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Qt4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arallel Python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4960" indent="-301680">
              <a:lnSpc>
                <a:spcPct val="100000"/>
              </a:lnSpc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Hopefully more for in-situ, multi-res, and time-varying data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482760" indent="-35244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+ a lot more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4720" y="167760"/>
            <a:ext cx="9072720" cy="13813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VisIt has a rapidly growing developer community.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rcRect l="680392" t="1246919" r="1751337" b="766947"/>
          <a:stretch/>
        </p:blipFill>
        <p:spPr>
          <a:xfrm>
            <a:off x="8121600" y="4116240"/>
            <a:ext cx="1959120" cy="34434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d4d4d6"/>
            </a:outerShdw>
          </a:effectLst>
        </p:spPr>
      </p:pic>
      <p:pic>
        <p:nvPicPr>
          <p:cNvPr id="428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888240" cy="4681440"/>
          </a:xfrm>
          <a:prstGeom prst="rect">
            <a:avLst/>
          </a:prstGeom>
          <a:ln w="0">
            <a:noFill/>
          </a:ln>
        </p:spPr>
      </p:pic>
      <p:sp>
        <p:nvSpPr>
          <p:cNvPr id="429" name=""/>
          <p:cNvSpPr/>
          <p:nvPr/>
        </p:nvSpPr>
        <p:spPr>
          <a:xfrm>
            <a:off x="0" y="3948120"/>
            <a:ext cx="2016000" cy="2184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SC / 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ic Brugger (P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athleen B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nk Chil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yrus Harri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 Mi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d Whit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2687760"/>
            <a:ext cx="1847880" cy="1008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LB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nther W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b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6132600"/>
            <a:ext cx="2016000" cy="1006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k Chi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d Whit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964120" y="4619520"/>
            <a:ext cx="2016360" cy="1260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OR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n Ah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remy Mered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Pugm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981080" y="3505320"/>
            <a:ext cx="2387880" cy="12189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UCDav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ristoph G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iver Rueb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uard Die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8120" y="2819520"/>
            <a:ext cx="2184120" cy="755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SciDAC/UUt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sh Stra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016000" y="6132600"/>
            <a:ext cx="2016360" cy="10065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GNEP/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Bre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k Chi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064360" y="4200480"/>
            <a:ext cx="2016360" cy="924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tt Whee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ul Sel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064360" y="5880240"/>
            <a:ext cx="2016360" cy="92376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C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bien Vivodtze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5880240"/>
            <a:ext cx="2016360" cy="14270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RNL Institu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n Ah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amison Dani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eremy Mered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vid Pugm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1679400"/>
            <a:ext cx="1847880" cy="1008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BL Institu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unther We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ab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932120" y="2100240"/>
            <a:ext cx="1847880" cy="671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NL Institu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im Galbra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376960" y="3611520"/>
            <a:ext cx="1847880" cy="671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ANL Institu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y Hud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863880" y="6551640"/>
            <a:ext cx="2016360" cy="1008000"/>
          </a:xfrm>
          <a:prstGeom prst="rect">
            <a:avLst/>
          </a:prstGeom>
          <a:solidFill>
            <a:srgbClr val="ffff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LDRD/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iel Lan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k Chi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016000" y="5375160"/>
            <a:ext cx="2016360" cy="757440"/>
          </a:xfrm>
          <a:prstGeom prst="rect">
            <a:avLst/>
          </a:prstGeom>
          <a:solidFill>
            <a:srgbClr val="ffff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Oil $ to LL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ic Bru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057400" y="4662360"/>
            <a:ext cx="2268360" cy="671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CDavis: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hn And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728120" y="2940120"/>
            <a:ext cx="2016000" cy="587160"/>
          </a:xfrm>
          <a:prstGeom prst="rect">
            <a:avLst/>
          </a:prstGeom>
          <a:solidFill>
            <a:srgbClr val="ffff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H: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m Fog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92960" y="3527280"/>
            <a:ext cx="1679760" cy="588960"/>
          </a:xfrm>
          <a:prstGeom prst="rect">
            <a:avLst/>
          </a:prstGeom>
          <a:solidFill>
            <a:srgbClr val="ffff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ITT (Indust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tt F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35880" y="1511280"/>
            <a:ext cx="3024000" cy="1344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Times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more partnerships coming soon (NSF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45000"/>
              <a:buFont typeface="Times"/>
              <a:buChar char="•"/>
              <a:tabLst>
                <a:tab algn="l" pos="503280"/>
                <a:tab algn="l" pos="1006560"/>
                <a:tab algn="l" pos="1509840"/>
                <a:tab algn="l" pos="2013120"/>
                <a:tab algn="l" pos="2516040"/>
                <a:tab algn="l" pos="3019320"/>
                <a:tab algn="l" pos="3522600"/>
                <a:tab algn="l" pos="4025880"/>
                <a:tab algn="l" pos="4529160"/>
                <a:tab algn="l" pos="5032440"/>
                <a:tab algn="l" pos="5535720"/>
                <a:tab algn="l" pos="6039000"/>
                <a:tab algn="l" pos="6541920"/>
                <a:tab algn="l" pos="7045200"/>
                <a:tab algn="l" pos="7548480"/>
                <a:tab algn="l" pos="8051760"/>
                <a:tab algn="l" pos="8555040"/>
                <a:tab algn="l" pos="9058320"/>
                <a:tab algn="l" pos="9561600"/>
                <a:tab algn="l" pos="10064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 contributions from people not in the reposi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0" y="1538640"/>
            <a:ext cx="9072720" cy="578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Support fo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Cloud Resolving Model Simul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VACET All-Hands Mee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IEEE Vis 200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"/>
          <p:cNvSpPr/>
          <p:nvPr/>
        </p:nvSpPr>
        <p:spPr>
          <a:xfrm>
            <a:off x="2971800" y="4495680"/>
            <a:ext cx="4092480" cy="8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33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PRABH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502920" y="1767960"/>
            <a:ext cx="9072360" cy="50468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SciDAC/INCIT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I: Dave Randall (CSU)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2008 INCITE award at NERSC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ulti-institution collaboration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CSU researchers developing the climate simulati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NNL researchers developing the Data API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ACET researchers helping w/ Data model, Parallel IO and Vi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2920" y="1767960"/>
            <a:ext cx="9402840" cy="54615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atmospheric circulation mod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non-hydrostatic dynamical co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cloud microphysics, turbulence, radi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coupled to land-surface mod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3km grid-cell spac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Planned runs on 20K+ franklin cor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Planned 1:1 simulated:wall_clock ti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Data throughpu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~1TB/h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2GB/s aggregate IO performance require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~500M cells*100 layers, 50 variab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1" descr=""/>
          <p:cNvPicPr/>
          <p:nvPr/>
        </p:nvPicPr>
        <p:blipFill>
          <a:blip r:embed="rId1"/>
          <a:stretch/>
        </p:blipFill>
        <p:spPr>
          <a:xfrm>
            <a:off x="463680" y="652320"/>
            <a:ext cx="9082080" cy="7858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502920" y="1767960"/>
            <a:ext cx="9072360" cy="2819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Identify a data model for GCRM cod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Enable simulation code to do efficient parallel IO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ualization and Analysis on extremely large icosahedral meshe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502920" y="1767960"/>
            <a:ext cx="9072360" cy="34275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en-GB" sz="3500" spc="-1" strike="noStrike" baseline="33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 Phase: NetCDF-3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etadata convention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Icosahedral m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esh variables/layout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spcBef>
                <a:spcPts val="649"/>
              </a:spcBef>
              <a:buClr>
                <a:srgbClr val="e66c7d"/>
              </a:buClr>
              <a:buFont typeface="Arial"/>
              <a:buChar char="▪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ell/corner/edge/face centered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spcBef>
                <a:spcPts val="649"/>
              </a:spcBef>
              <a:buClr>
                <a:srgbClr val="e66c7d"/>
              </a:buClr>
              <a:buFont typeface="Arial"/>
              <a:buChar char="▪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satisfy VisIt plugin requirement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2</a:t>
            </a:r>
            <a:r>
              <a:rPr b="0" lang="en-GB" sz="3500" spc="-1" strike="noStrike" baseline="33000">
                <a:solidFill>
                  <a:srgbClr val="000000"/>
                </a:solidFill>
                <a:latin typeface="Corbel"/>
              </a:rPr>
              <a:t>nd</a:t>
            </a: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 Phase NetCDF-4 (HDF5)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502920" y="1768320"/>
            <a:ext cx="9072360" cy="563508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Need sustained 2+GB/s collective IO to single shared fil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urrent franklin performance ~0.3-1.2 GB/s (for single file)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Large number of IOR tests examining factor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O pattern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lustre strip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blocking/transfer size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#IO nodes, #OST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502920" y="1768320"/>
            <a:ext cx="9072360" cy="567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Issues identified with Cray's mpich implementation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ot sufficiently aware of OST strip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odifying HDF5 to align/pad to OST stripe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urrent best strategy is to us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2-phase IO (use aggregator nodes)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#IO nodes = #OSTs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Match file transfer size to stripe width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Simulate ‘file-per-process’ IO pattern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502920" y="1768320"/>
            <a:ext cx="9072360" cy="392328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plugin developed to load icosahedral NetCDF mesh data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reliminary custom visualizations rendered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Online tutorials and startup instructions published at: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http://vis.lbl.gov/~prabhat/Incite19/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LNL User</cp:lastModifiedBy>
  <dcterms:modified xsi:type="dcterms:W3CDTF">2008-10-22T12:52:41Z</dcterms:modified>
  <cp:revision>19</cp:revision>
  <dc:subject/>
  <dc:title>Slide 1</dc:title>
</cp:coreProperties>
</file>